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04C-2A83-4A7C-947E-2F35891B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from 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F4E-F4BB-46CE-8446-3502E04F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in corners and then share as a lar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20A-5DDC-4E3A-B864-96A3D8B1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93B-1486-47CC-9C6F-633C0FF5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10C-BE6F-4FAF-9DED-6DA5E3DF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F80-E376-45C6-8EF7-C6694BAC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944-C1C5-4247-B360-11CCE8A4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877-8F8C-42E7-9797-F1FF6EB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1F7-8130-4633-A06E-A34B183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742-9B28-409B-AE38-6BB95F2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FEB-BC58-4224-8D4C-143892D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33B-7DF1-4E6A-B8C6-0EC8B97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1B7-E0EE-43B4-9713-AB1D5DF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C32-165B-4C32-B4F2-D940BF3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E4B-D173-4D8D-8A2F-9A2D7B8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6173-1AA7-4586-BA45-41FE050E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Learning Goals and Consolidating Question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Problem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figur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reating Consolidating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onsolidating question that would be appropriate for this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85800" y="1828800"/>
            <a:ext cx="8001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consolidation questions connected to the Big Ideas and 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learning goals connected to Big Ideas and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airy Queen Mini Blizzard Commercial.wmv" descr=""/>
          <p:cNvPicPr/>
          <p:nvPr/>
        </p:nvPicPr>
        <p:blipFill>
          <a:blip r:embed="rId1"/>
          <a:stretch/>
        </p:blipFill>
        <p:spPr>
          <a:xfrm>
            <a:off x="282600" y="533520"/>
            <a:ext cx="8578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ne or two of the problems on the page provided.  Ensure that each problem on the page is completed by at least one person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666880" y="4267080"/>
            <a:ext cx="5562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en’s questions from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1904760"/>
            <a:ext cx="7772400" cy="4221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ything else go in here about the arti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ng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57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arian’s session, we are looking for consolidating question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out a big ide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ome useful aspect of a relevant expectat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o proportional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ing a consolidating ques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20574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Examine the Posing Powerful Questions template provided.  You should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A less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e 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Part of the lesson (question from yester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oments to try the lesson activity if you didn’t choose this on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four possible consolidating questions provided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which question you think best fits the criteria for a good consolidating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the corner for the consolidating question that you chose.  Spend a few minutes talking with others about why you chose the question you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0T23:34:47Z</dcterms:modified>
  <cp:revision>212</cp:revision>
  <dc:subject/>
  <dc:title>Slide 1</dc:title>
</cp:coreProperties>
</file>